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7BE-E999-4BE8-A34D-C195E8B1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129-7B26-4A2C-8477-967FB262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CCB-03E5-4A6A-8225-B8D40F09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123-967E-46BB-85E2-BFF3C484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DC6-68F8-46E8-9478-55A9EDC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FC4-870B-4E55-BD8A-6BC89C2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889-AE8E-4445-8D82-E7562A7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C73-8770-4EE8-A1E4-5DA4D45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963-29A3-4F07-B617-44D0233B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F08-1815-4A43-8D5D-DA3D66C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286-F28D-40A4-9C24-344791B2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2D6-5E16-4E1A-B45D-2942D1D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3475-BEDF-45F0-B49A-0BF97A89D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tc.scott.k12.ky.us/technology/digitalstorytelling/connor_T1.mov" TargetMode="External"/><Relationship Id="rId2" Type="http://schemas.openxmlformats.org/officeDocument/2006/relationships/hyperlink" Target="http://www.dtc.scott.k12.ky.us/technology/digitalstorytelling/annoyingsister_t1.mov" TargetMode="External"/><Relationship Id="rId3" Type="http://schemas.openxmlformats.org/officeDocument/2006/relationships/hyperlink" Target="http://www.dtc.scott.k12.ky.us/technology/digitalstorytelling/optimism_t1.mo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Typewriter"/>
              </a:rPr>
              <a:t>Digital Story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ytelling is the art of using language, vocalization, and/or physical movement and gesture to reveal the elements and images of a story to a specific, live audi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From members of the National Association of Storyt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gital Storyt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igital media to 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would you use Digital Storytelling in a classroo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ading or wri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Healt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excited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differen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ing with videos, pictures,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external artifacts an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s links to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aught up in the design instead of th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/mo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Used to Create Digital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M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pho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Imov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hoto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ovieM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look at som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e Makes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o brothers or sisters make life f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e you proud to be an Americ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23:01:09Z</dcterms:created>
  <dc:creator>BCPS</dc:creator>
  <dc:description/>
  <dc:language>en-US</dc:language>
  <cp:lastModifiedBy>BCPS</cp:lastModifiedBy>
  <dcterms:modified xsi:type="dcterms:W3CDTF">2010-10-13T21:02:03Z</dcterms:modified>
  <cp:revision>4</cp:revision>
  <dc:subject/>
  <dc:title>Digital ___________</dc:title>
</cp:coreProperties>
</file>